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5651-8D2A-4CD2-9FDD-B53C9A84A8C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1 - The text is on these 4 slides – you could control the speed of learners’ reading by moving on to the next slide after 3 minutes. Alternatively, access online at: http://eewiki.newint.org/index.php/Democracy_in_the_digital_age   -  middle section of the article – or print out for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B72C-BB04-4FA5-8F06-D3FECB77A2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2</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0372-B8EF-43E7-8DFD-BE504AF367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3</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4A5D-F1C7-46D8-AE59-C365146BDF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4</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F9C2-ACAD-4E07-8849-68396A3314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note down errors in speaking for post-task correction, and blu-tac the stories to the wall for all learners to read and improve. Of course learners could do both Speaking AND Writing if you/they choose, or if there’s ti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EA93-0BE9-49DB-AB1E-663B8B38D8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homework, learners could choose one article about democracy each (or in pairs) and report back next less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31F9-4B5D-4A19-B18E-2F1C9BFABC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 10 mins; Quiz – 15-20 mins; Vocab – 10 mins; Reading – 15-20 mins; Writing/speaking – 20-30 min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546B-D94C-4465-9C8F-150F0FB7DE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e   3/f   4/b   5/a   6/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839D-982F-4AD7-A14F-338DAF6F7F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know about Iceland, and what they would like to know.</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EF49-A86E-4CC4-A7B4-6EF661A073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stages for learners, in groups, to predict the order, then to read and order according to the text.</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B650-130F-49F8-A2A1-920BC4CDC9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5D60B-E3AF-4893-9A3A-317A16A21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98761-F9DC-453A-B2C5-4324AC7A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75524-9AD5-46AE-89D0-D9CA60014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E9229-37A0-4490-8E8B-677866679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2120-BF8E-4A09-8FA1-0EB9CE7EA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45981-5B16-40B5-ACAE-E71DF1B4C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B9DD7-9028-4E11-B2E9-CBDD1F2D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4D5B-71EA-4146-B2FF-89C958B82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8778-5E41-42AC-94A2-C5100926F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65DE-92A5-41A9-BE03-9D033A50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159B-6D33-46A2-BC85-5ACBA43CC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63E3-38A2-4BBD-9327-57E97FA86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0265-29D9-4842-9CE2-CC341C73213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58920" y="2130120"/>
            <a:ext cx="539892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Democracy</a:t>
            </a:r>
            <a:endParaRPr b="0" lang="en-US" sz="8800" spc="-1" strike="noStrike">
              <a:solidFill>
                <a:srgbClr val="000000"/>
              </a:solidFill>
              <a:latin typeface="Calibri"/>
            </a:endParaRPr>
          </a:p>
        </p:txBody>
      </p:sp>
      <p:sp>
        <p:nvSpPr>
          <p:cNvPr id="49" name="PlaceHolder 2"/>
          <p:cNvSpPr>
            <a:spLocks noGrp="1"/>
          </p:cNvSpPr>
          <p:nvPr>
            <p:ph type="subTitle"/>
          </p:nvPr>
        </p:nvSpPr>
        <p:spPr>
          <a:xfrm>
            <a:off x="394920" y="4508640"/>
            <a:ext cx="4321080" cy="1944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Intermediate   New Internationalist  Easier English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193680" y="214200"/>
            <a:ext cx="2577960" cy="3646440"/>
          </a:xfrm>
          <a:prstGeom prst="rect">
            <a:avLst/>
          </a:prstGeom>
          <a:ln w="0">
            <a:noFill/>
          </a:ln>
        </p:spPr>
      </p:pic>
      <p:pic>
        <p:nvPicPr>
          <p:cNvPr id="52" name="Picture 6" descr=""/>
          <p:cNvPicPr/>
          <p:nvPr/>
        </p:nvPicPr>
        <p:blipFill>
          <a:blip r:embed="rId3"/>
          <a:stretch/>
        </p:blipFill>
        <p:spPr>
          <a:xfrm>
            <a:off x="5592600" y="4365720"/>
            <a:ext cx="3249720" cy="22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179280" y="188640"/>
            <a:ext cx="8856720" cy="6553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celand is an island in the North Atlantic, with a population of 320,001. It says it has the oldest parliamentary democracy in the world. But this is a myth; it was a colony of Denmark and Norway for centuries, and became an independent democratic republic in 1944.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have a lot of corruption. Iceland is like a big Sicily. When they were becoming independent, the powerful mafia (‘the Octopus’) took everything from the country and gave it to their families and friends. It was like some African countries when they became independent about ten years later.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why the banks (when they became private in 2005) did not follow the professional laws. They gave the banks to people who pleased the ‘mafia’ famil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government studied the financial collapse, they found, in April 2010, that the buyers never really paid for the banks. The country didn’t get the money for them. </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178920" y="115560"/>
            <a:ext cx="8713800" cy="655308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lso, Iceland’s bankers abused the European Economic Area banking laws to set up sister banks in Europe. So Iceland-based banks grew too much: to six times Iceland’s GDP in only a few years. The bad bankers said we could be the financial leaders of the world. Iceland’s President Ólafur Ragnar Grímsson and many others told people this, in Iceland and in other countries.. I did not believe this the fairytale, but most of the country did. Many people got good bank loans and the value of property rose.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were many temptations. The bank owners put gold dust on their food and had private planes. Everyone loved them – and the bank owners also owned the media.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financial collapse in 2008, people had to see that everything they trusted had failed. There were many new thinktanks and grassroots groups. People discussed the future they wanted to develop together. They wanted to create Iceland 2.0 – a New Iceland - free from what brought them the world’s fourth largest financial collapse.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08000" y="115920"/>
            <a:ext cx="8928000" cy="640872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had to think like when they have a personal crisis. When you have a death in the family or a serious illness – you are more about to change. This is the same for societ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a deep crisis, you can make real changes. A good way to discover the true nature of a society is to start a discussion on what the society would like in its constitution or ‘social agreement’.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crisis, between 2009 and 2013, the people of Iceland tried to do something parliament had never been able to do in the 70 years since independence. By ‘crowdsourcing’, they wrote a new constitution by and for the people of Iceland, based on our values today. In a referendum, 67% of the people voted for the new constitut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began to trust the parliament. But parliament did not do what the people wanted. They did not bring in the new constitution, and, in April 2013, a new Centre-Right coalition that came to power. So now it will probably not happe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179280" y="115560"/>
            <a:ext cx="8856720" cy="65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d more success in other areas. Eva Joly (lawyer and whistleblower) gave advice on how to bring to justice the people responsible for the crisis. In 2012, at the Landsdomur (a special court started in 1905 to make parliamentarians responsible), former Prime Minister Geir Haarde was found guilty of not calling emergency cabinet meetings before the financial cris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there were very big changes in the local elections. In 2010, a very popular comedian Jón Gnarr (of the new Best Party) became mayor of Reykjavik. The party promised to use a direct democracy platform called Better Reykjavik. People suggest ideas here and the city council discusses the most popular suggestions every mon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April 2013 general election, two new parties entered the parliament: Bright Future and The Pirate Party. I helped co-create the Pirate Party and I became a Pirate Party M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ow have the worst government for as long as I can remember. The people from the Octopus – the corrupt old Iceland – can now do whatever they feel is good for the 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740720" y="-360"/>
            <a:ext cx="12952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Key</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4" name=""/>
          <p:cNvSpPr txBox="1"/>
          <p:nvPr/>
        </p:nvSpPr>
        <p:spPr>
          <a:xfrm>
            <a:off x="0" y="475920"/>
            <a:ext cx="9144000" cy="626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celand was a colony of Denmark and Norway. Before 1944</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celand became independent. – 1944</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ts of corruption by the mafia “The Octopus”. 1944-201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Privatisation of banks. - 200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Banks grew too much, too quickly. 2005-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inancial collapse. – 2008</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j/Discovery that the private buyers didn’t really buy the banks.2010</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 comedian became Mayor of Rekjavik. 2010</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ew “crowdsourced” constitution written by the people. 2013</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2 new parties: “Pirate Party”and “Bright Future”.2013</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Worst government ever. 201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Speaking</a:t>
            </a:r>
            <a:r>
              <a:rPr b="0" lang="en-GB" sz="4800" spc="-1" strike="noStrike">
                <a:solidFill>
                  <a:srgbClr val="000000"/>
                </a:solidFill>
                <a:latin typeface="Calibri"/>
              </a:rPr>
              <a:t>         or     </a:t>
            </a:r>
            <a:r>
              <a:rPr b="1" lang="en-GB" sz="4800" spc="-1" strike="noStrike">
                <a:solidFill>
                  <a:srgbClr val="ff0000"/>
                </a:solidFill>
                <a:latin typeface="Calibri"/>
              </a:rPr>
              <a:t>Writing</a:t>
            </a:r>
            <a:r>
              <a:rPr b="0" lang="en-GB" sz="4800" spc="-1" strike="noStrike">
                <a:solidFill>
                  <a:srgbClr val="000000"/>
                </a:solidFill>
                <a:latin typeface="Calibri"/>
              </a:rPr>
              <a:t>?</a:t>
            </a:r>
            <a:endParaRPr b="0" lang="en-US" sz="4800" spc="-1" strike="noStrike">
              <a:solidFill>
                <a:srgbClr val="000000"/>
              </a:solidFill>
              <a:latin typeface="Calibri"/>
            </a:endParaRPr>
          </a:p>
        </p:txBody>
      </p:sp>
      <p:sp>
        <p:nvSpPr>
          <p:cNvPr id="86" name=""/>
          <p:cNvSpPr txBox="1"/>
          <p:nvPr/>
        </p:nvSpPr>
        <p:spPr>
          <a:xfrm>
            <a:off x="108000" y="1341000"/>
            <a:ext cx="43876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iscuss again:</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What is “democracy”?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and what is the oppos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can we get better democracy than we have at the momen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are the Internet, Facebook, Twitter etc related to democrac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648320" y="1341000"/>
            <a:ext cx="403848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the story of democracy in Iceland as a children’s story</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begin ….</a:t>
            </a:r>
            <a:endParaRPr b="0" lang="en-US" sz="28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a:t>
            </a:r>
            <a:r>
              <a:rPr b="1" lang="en-GB" sz="3400" spc="-1" strike="noStrike">
                <a:solidFill>
                  <a:srgbClr val="7030a0"/>
                </a:solidFill>
                <a:latin typeface="Calibri"/>
              </a:rPr>
              <a:t>Once upon a time, there was a small country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Homework:</a:t>
            </a:r>
            <a:endParaRPr b="0" lang="en-US" sz="4400" spc="-1" strike="noStrike">
              <a:solidFill>
                <a:srgbClr val="000000"/>
              </a:solidFill>
              <a:latin typeface="Calibri"/>
            </a:endParaRPr>
          </a:p>
        </p:txBody>
      </p:sp>
      <p:sp>
        <p:nvSpPr>
          <p:cNvPr id="89" name=""/>
          <p:cNvSpPr txBox="1"/>
          <p:nvPr/>
        </p:nvSpPr>
        <p:spPr>
          <a:xfrm>
            <a:off x="107640" y="1341000"/>
            <a:ext cx="8785080" cy="47847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 the complete simplified text: </a:t>
            </a:r>
            <a:r>
              <a:rPr b="0" lang="en-GB" sz="2000" spc="-1" strike="noStrike">
                <a:solidFill>
                  <a:srgbClr val="000000"/>
                </a:solidFill>
                <a:latin typeface="Calibri"/>
              </a:rPr>
              <a:t>http://eewiki.newint.org/index.php/Democracy_in_the_digital_ag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lick on the original at the bottom and read that. You’ll be amazed how easy it is to understand after you’ve read the easier English tex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terested in reading more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bout democrac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Issue_479</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 look up the category “democracy”:</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Category:Democra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2" descr=""/>
          <p:cNvPicPr/>
          <p:nvPr/>
        </p:nvPicPr>
        <p:blipFill>
          <a:blip r:embed="rId1"/>
          <a:stretch/>
        </p:blipFill>
        <p:spPr>
          <a:xfrm>
            <a:off x="6431040" y="3284640"/>
            <a:ext cx="246204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54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250560" y="1412640"/>
            <a:ext cx="8737560" cy="5329080"/>
          </a:xfrm>
          <a:prstGeom prst="rect">
            <a:avLst/>
          </a:prstGeom>
          <a:noFill/>
          <a:ln w="0">
            <a:noFill/>
          </a:ln>
        </p:spPr>
        <p:txBody>
          <a:bodyPr anchor="t">
            <a:normAutofit fontScale="97000"/>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1: what is </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Quiz: democracy and the worl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a:rPr>
              <a:t>Vocabulary: related to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democracy – the story of Icelan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2: what is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Writing: a story for children</a:t>
            </a:r>
            <a:endParaRPr b="0" lang="en-US" sz="3800" spc="-1" strike="noStrike">
              <a:solidFill>
                <a:srgbClr val="000000"/>
              </a:solidFill>
              <a:latin typeface="Calibri"/>
            </a:endParaRPr>
          </a:p>
        </p:txBody>
      </p:sp>
      <p:pic>
        <p:nvPicPr>
          <p:cNvPr id="55" name="Picture 4" descr=""/>
          <p:cNvPicPr/>
          <p:nvPr/>
        </p:nvPicPr>
        <p:blipFill>
          <a:blip r:embed="rId1"/>
          <a:stretch/>
        </p:blipFill>
        <p:spPr>
          <a:xfrm>
            <a:off x="5580000" y="476280"/>
            <a:ext cx="324792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6530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f0"/>
                </a:solidFill>
                <a:latin typeface="Calibri"/>
              </a:rPr>
              <a:t>Questions:</a:t>
            </a:r>
            <a:endParaRPr b="0" lang="en-US" sz="4400" spc="-1" strike="noStrike">
              <a:solidFill>
                <a:srgbClr val="000000"/>
              </a:solidFill>
              <a:latin typeface="Calibri"/>
            </a:endParaRPr>
          </a:p>
        </p:txBody>
      </p:sp>
      <p:sp>
        <p:nvSpPr>
          <p:cNvPr id="57" name=""/>
          <p:cNvSpPr txBox="1"/>
          <p:nvPr/>
        </p:nvSpPr>
        <p:spPr>
          <a:xfrm>
            <a:off x="395280" y="1268280"/>
            <a:ext cx="8229600" cy="4957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What is “democracy”?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d what is the opposit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2/ How can we get better democracy than we have at the momen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How are the Internet, Facebook, Twitter etc related to democracy?</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5991120" y="404640"/>
            <a:ext cx="3048120" cy="1924200"/>
          </a:xfrm>
          <a:prstGeom prst="rect">
            <a:avLst/>
          </a:prstGeom>
          <a:ln w="0">
            <a:noFill/>
          </a:ln>
        </p:spPr>
      </p:pic>
      <p:pic>
        <p:nvPicPr>
          <p:cNvPr id="59" name="Picture 3" descr=""/>
          <p:cNvPicPr/>
          <p:nvPr/>
        </p:nvPicPr>
        <p:blipFill>
          <a:blip r:embed="rId2"/>
          <a:stretch/>
        </p:blipFill>
        <p:spPr>
          <a:xfrm>
            <a:off x="1332000" y="5254560"/>
            <a:ext cx="2101680" cy="1546200"/>
          </a:xfrm>
          <a:prstGeom prst="rect">
            <a:avLst/>
          </a:prstGeom>
          <a:ln w="0">
            <a:noFill/>
          </a:ln>
        </p:spPr>
      </p:pic>
      <p:pic>
        <p:nvPicPr>
          <p:cNvPr id="60" name="Picture 4" descr=""/>
          <p:cNvPicPr/>
          <p:nvPr/>
        </p:nvPicPr>
        <p:blipFill>
          <a:blip r:embed="rId3"/>
          <a:stretch/>
        </p:blipFill>
        <p:spPr>
          <a:xfrm>
            <a:off x="6110280" y="5021280"/>
            <a:ext cx="280980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948000" y="274680"/>
            <a:ext cx="173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62" name=""/>
          <p:cNvSpPr txBox="1"/>
          <p:nvPr/>
        </p:nvSpPr>
        <p:spPr>
          <a:xfrm>
            <a:off x="395280" y="476280"/>
            <a:ext cx="8291520" cy="564984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many people in the world n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e Intern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30 million b) 300 million c) 3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at percentage of internet users are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Europe? b) Africa? c) Asia?</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at percentage of the population have Internet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North America? b) Africa? C) Europ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How many emails are sent every second?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About 2.5 thousand b) About 2.5 million c) About 2.5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323640" y="333360"/>
            <a:ext cx="8569080" cy="619128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5. Which country has the most journalists in prison?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USA b) China c) Turkey</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6. Name 5 of the countries with the most censorship of the Internet in the worl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7. How many people are there in China’s Internet police?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500,000 b) I million c) 2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8. How many people now use Facebook?: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1,350 b) 1,350 thousand c) 1,350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15920"/>
            <a:ext cx="878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o find the answers, look at this </a:t>
            </a:r>
            <a:r>
              <a:rPr b="0" lang="en-GB" sz="4400" spc="-1" strike="noStrike">
                <a:solidFill>
                  <a:srgbClr val="000000"/>
                </a:solidFill>
                <a:latin typeface="Calibri"/>
              </a:rPr>
              <a:t>: </a:t>
            </a:r>
            <a:r>
              <a:rPr b="0" lang="en-GB" sz="2000" spc="-1" strike="noStrike">
                <a:solidFill>
                  <a:srgbClr val="000000"/>
                </a:solidFill>
                <a:latin typeface="Calibri"/>
              </a:rPr>
              <a:t>http://www.newint.org/features/2015/01/01/digital-democracy-facts/</a:t>
            </a:r>
            <a:endParaRPr b="0" lang="en-US" sz="2000" spc="-1" strike="noStrike">
              <a:solidFill>
                <a:srgbClr val="000000"/>
              </a:solidFill>
              <a:latin typeface="Calibri"/>
            </a:endParaRPr>
          </a:p>
        </p:txBody>
      </p:sp>
      <p:pic>
        <p:nvPicPr>
          <p:cNvPr id="66" name="Picture 4" descr=""/>
          <p:cNvPicPr/>
          <p:nvPr/>
        </p:nvPicPr>
        <p:blipFill>
          <a:blip r:embed="rId1"/>
          <a:stretch/>
        </p:blipFill>
        <p:spPr>
          <a:xfrm>
            <a:off x="250920" y="1197000"/>
            <a:ext cx="8715240" cy="61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320"/>
            <a:ext cx="302436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32523"/>
                </a:solidFill>
                <a:latin typeface="Calibri"/>
              </a:rPr>
              <a:t>Vocabulary – match:</a:t>
            </a:r>
            <a:endParaRPr b="0" lang="en-US" sz="4400" spc="-1" strike="noStrike">
              <a:solidFill>
                <a:srgbClr val="000000"/>
              </a:solidFill>
              <a:latin typeface="Calibri"/>
            </a:endParaRPr>
          </a:p>
        </p:txBody>
      </p:sp>
      <p:sp>
        <p:nvSpPr>
          <p:cNvPr id="68" name=""/>
          <p:cNvSpPr txBox="1"/>
          <p:nvPr/>
        </p:nvSpPr>
        <p:spPr>
          <a:xfrm>
            <a:off x="108000" y="2060280"/>
            <a:ext cx="3456000" cy="40654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1) corrup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2) crowdsourc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3) privatisa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4) constitu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5) colon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6) censorship</a:t>
            </a:r>
            <a:endParaRPr b="0" lang="en-US" sz="3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3564000" y="115560"/>
            <a:ext cx="5472000" cy="6481800"/>
          </a:xfrm>
          <a:prstGeom prst="rect">
            <a:avLst/>
          </a:prstGeom>
          <a:noFill/>
          <a:ln w="0">
            <a:noFill/>
          </a:ln>
        </p:spPr>
        <p:txBody>
          <a:bodyPr anchor="t">
            <a:normAutofit fontScale="99000"/>
          </a:bodyPr>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country under political control of another country.</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set of rules that say how a country is governed.</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Using power to get something (eg. money) for yourself.</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Control of information and ideas.</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Getting money for a project from a lot of people online.</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When the government sells something (eg. a bank) to private people/compan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celand – what do you know alread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Birgitta Jónsdóttir</a:t>
            </a:r>
            <a:r>
              <a:rPr b="0" i="1" lang="en-GB" sz="3200" spc="-1" strike="noStrike">
                <a:solidFill>
                  <a:srgbClr val="000000"/>
                </a:solidFill>
                <a:latin typeface="Calibri"/>
              </a:rPr>
              <a:t>, 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ctivist and politic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from Iceland, tells th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story of he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and how it is becom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more democratic</a:t>
            </a:r>
            <a:endParaRPr b="0" lang="en-US" sz="3200" spc="-1" strike="noStrike">
              <a:solidFill>
                <a:srgbClr val="000000"/>
              </a:solidFill>
              <a:latin typeface="Calibri"/>
            </a:endParaRPr>
          </a:p>
        </p:txBody>
      </p:sp>
      <p:pic>
        <p:nvPicPr>
          <p:cNvPr id="72" name="Picture 4" descr=""/>
          <p:cNvPicPr/>
          <p:nvPr/>
        </p:nvPicPr>
        <p:blipFill>
          <a:blip r:embed="rId1"/>
          <a:stretch/>
        </p:blipFill>
        <p:spPr>
          <a:xfrm>
            <a:off x="4711680" y="1679400"/>
            <a:ext cx="4253040" cy="46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Read the text to put these stages in order</a:t>
            </a:r>
            <a:r>
              <a:rPr b="0" lang="en-GB" sz="3800" spc="-1" strike="noStrike">
                <a:solidFill>
                  <a:srgbClr val="000000"/>
                </a:solidFill>
                <a:latin typeface="Calibri"/>
              </a:rPr>
              <a:t>:</a:t>
            </a:r>
            <a:endParaRPr b="0" lang="en-US" sz="3800" spc="-1" strike="noStrike">
              <a:solidFill>
                <a:srgbClr val="000000"/>
              </a:solidFill>
              <a:latin typeface="Calibri"/>
            </a:endParaRPr>
          </a:p>
        </p:txBody>
      </p:sp>
      <p:sp>
        <p:nvSpPr>
          <p:cNvPr id="74" name=""/>
          <p:cNvSpPr txBox="1"/>
          <p:nvPr/>
        </p:nvSpPr>
        <p:spPr>
          <a:xfrm>
            <a:off x="108000" y="692280"/>
            <a:ext cx="8928000" cy="5976720"/>
          </a:xfrm>
          <a:prstGeom prst="rect">
            <a:avLst/>
          </a:prstGeom>
          <a:noFill/>
          <a:ln w="0">
            <a:noFill/>
          </a:ln>
        </p:spPr>
        <p:txBody>
          <a:bodyPr anchor="t">
            <a:normAutofit fontScale="83000"/>
          </a:bodyPr>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ncial collaps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Lots of corruption by the mafia “The Octopus”.</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comedian became Mayor of Rekjavik.</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became independent.</a:t>
            </a:r>
            <a:endParaRPr b="0" lang="en-US" sz="3000" spc="-1" strike="noStrike">
              <a:solidFill>
                <a:srgbClr val="000000"/>
              </a:solidFill>
              <a:latin typeface="Calibri"/>
            </a:endParaRPr>
          </a:p>
          <a:p>
            <a:pPr marL="426960" indent="-42696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w “crowdsourced” constitution written by the people.</a:t>
            </a:r>
            <a:endParaRPr b="0" lang="en-US" sz="28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was a colony of Denmark and Norwa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nks grew too much, too quickl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new parties: “Pirate Party” and “Bright Futur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orst government ever.</a:t>
            </a:r>
            <a:endParaRPr b="0" lang="en-US" sz="3000" spc="-1" strike="noStrike">
              <a:solidFill>
                <a:srgbClr val="000000"/>
              </a:solidFill>
              <a:latin typeface="Calibri"/>
            </a:endParaRPr>
          </a:p>
          <a:p>
            <a:pPr marL="426960" indent="-426960">
              <a:spcBef>
                <a:spcPts val="64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covery that the private buyers didn’t really buy the banks.</a:t>
            </a:r>
            <a:endParaRPr b="0" lang="en-US" sz="26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vatisation of banks</a:t>
            </a:r>
            <a:endParaRPr b="0" lang="en-US" sz="3000" spc="-1" strike="noStrike">
              <a:solidFill>
                <a:srgbClr val="000000"/>
              </a:solidFill>
              <a:latin typeface="Calibri"/>
            </a:endParaRPr>
          </a:p>
          <a:p>
            <a:pPr marL="426960" indent="-426960">
              <a:spcBef>
                <a:spcPts val="79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9T16:28:35Z</dcterms:modified>
  <cp:revision>31</cp:revision>
  <dc:subject/>
  <dc:title>Oil</dc:title>
</cp:coreProperties>
</file>